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C8A-33E4-453F-B8DF-40C35A6B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601-61FC-4E5E-8CEE-B687E054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A470B-3049-499C-9346-7D03F749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000F9-8757-4CCB-B612-0A29A71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DFCBC-9350-4DCE-BF5F-897FAD32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5ADC0-C150-49FD-9ED9-AF667D45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BE203-6CCA-43FF-81D2-60A279AA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FA70C-E1C2-4280-ADF6-95E5B857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405B3-B4B1-4252-8FA2-4BF377A8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5FFB6-EC76-43D9-A933-DF4B366F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B3D7B-FF99-425B-B74D-7E9C8DA6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1DD76-3492-4F08-8AFF-F7BA435E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517-EE7E-4DA4-95C8-10FA4547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FD398-779A-4E7D-BFE9-396238A6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C3C12-5663-4E98-864F-B488B8B6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45561-916F-45B4-BE21-F81B394D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5E450-F598-4173-B09B-04D2AAF7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7F091-ADD8-4B7B-AE7D-0E949CE1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13D14-72D3-432C-A11F-348A361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A0BCF-2B26-4411-93EE-749E04F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3105F-FE63-45F5-8562-C9B1FE6A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4ABCE-81D7-4720-B625-8ED2D8E5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01FA5-A09E-4AAE-9AA8-2F7BFA14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6B6-DA7D-4D1A-86F0-80F74D10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AFC02-96D2-49FB-845D-9217CF3B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A6FF6-7AB7-4F63-9246-4DF6BB6A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B4F00-177E-46CA-8877-E9F81DA7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E1FBD-6DA1-4BC4-A018-4A9BAFD5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1F5CF-355D-4795-8B6E-A8E8871E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BA14F-5D79-42E7-A23E-C69FD2AD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8DCEB-B28B-48C3-AF9F-8C90D298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8D229-67D6-4795-AA6B-229F801F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D7403-ED3F-4CA5-A16C-377AF19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2166E-1868-4903-AEBD-185D6E4D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65FC-73D6-493F-8E3F-45938785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DEDDF-4B4B-4238-9ECD-2FCEE6AC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D7111-13FC-44AC-8F79-F5484846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109F1-F354-4BA0-B5CC-8EC1356F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9C66D-08A3-41AF-A38F-47030370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7B71E-7A95-4B59-B9BA-D4208FB1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D2E24-ECF7-430F-89FD-D6B22B3F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D2536-EB43-489F-AC27-2D00563A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1157F-D7CF-441A-B119-5D1A172D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83B9F-83E8-4DAA-A2F8-C514A8C0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093E7-B553-4848-8DD9-05902AFC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65C6-B5F5-4673-98B9-B65264F5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49313-CBD9-4A5F-9AEF-E19CCD16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CE14A-9F36-42E0-90FC-2D14FFE7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3F2CD-BD66-4B1B-B4BF-A7A7206E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BB367-857F-4ED0-8FCE-9D97C29A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80C23-48E8-489A-9221-7144F929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BF474-6B90-4007-B597-3B6F1284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05AD2-B4BF-4C69-8554-A5576BF4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1A766-C31D-4082-BBDE-2F76EDCC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1D4CF-1022-4022-AE80-E3C2BC76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83DB4-73DD-47A7-92C1-640F3CCE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7D81-102C-432C-AC36-BDA651EC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FA2B3-01FA-4388-8F0D-C761F154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9253E-FDE0-43D8-941F-597C3208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4803A-FDDC-49E2-86C8-E59452F0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20088-F0C4-4855-B99C-23683C7A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91700-0470-45DA-85A5-2AAED767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5422A-5160-4B4A-B0C1-18E4D6D5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49DC1-7AD3-46AF-ADB0-8D912B25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4197A-690F-4E7C-8E1F-8A633A90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FECBC-F906-4D7B-B4BC-E2C8E3BE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BC658-9CAD-4CA1-B071-A396002C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F8DF-9338-4207-A3C7-07C4D232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3E984-5E65-43DA-B551-4A6096BC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9AE13-7917-4EDD-B3CC-F5D9DF9F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36F02-2E9C-470C-AEB2-9C5A6E77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AB1A0-F633-48A3-A82F-81156510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5573B-48F8-4FEF-BAFF-F513A9E3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93ABE-B7DE-437A-8CF9-75540F37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00DEE-0CA2-4172-8396-07035B71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66EB0-2894-4002-9B34-F0201D10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58B41-4DF1-45FF-838E-45CBE946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D1026-2946-4704-B01D-4715BB49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B4C9-5FAA-48D5-858A-BE2F3009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CD655-DF7D-4261-88FF-FF235F17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1B1D2-EAAA-4FFE-B219-9DC46D0B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304DC-B926-48D9-8B4C-F29AD86A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3832F-9FDE-4C79-8AB4-4DCEBC36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C37C4-EF41-4412-831F-B1F6DAA3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ACF3B-21D9-4FAE-A8C7-714245C8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08929-7708-469D-A8C7-BE680C94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1D7B0-2108-44F7-9F3C-6C3E359A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4BFD0-CD28-4166-B0BD-F30FDD2B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EA914-5450-4B92-B6E3-F55C5A1F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FFFE-F77D-4B61-938C-D8EDD01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73668C-C89C-492C-9401-F2807819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F8A57-23A8-4D14-975D-5545C349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0C9DE-1E21-4743-8304-9492A4C8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6C0F8-2D0A-4759-A67B-C8611D44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68E16-A8B5-4A18-BB1D-69FDA9C3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A6C0B4-AAE7-4FD8-9480-72BCEA87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BD09E6-646A-4299-A975-4F87D668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BC416-E2B7-48EE-B204-D9054A2E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9074B8-F4EF-4C66-8E4D-C93AFA9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F7563-99DF-4FE8-93F9-B06B6795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D47C-5C7A-4ACB-ACA0-A3A57AF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B5ED2-63D5-467A-B729-0A51644F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C912F-E054-41C2-AC37-E4635144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93E6AC-790A-440E-96F3-2CF4820A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C9D3D-D6D0-445B-A631-AD47B39F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F1628-0AC8-4CE3-9F2F-6F30DF72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145D8-B0E0-4420-9D7D-C98A3A21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E95B9-A9D1-4726-AAD1-29F7BB28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448957-A536-46B7-A550-68D5EF20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4916F-47DB-474A-9D5D-7FE54454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66CF7-7D40-49A1-9382-1347050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646-C159-47E1-A2F0-D43F91A0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7903-3753-46E1-892C-2D0034A4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C83ED-5F7C-487D-8DA2-D1D43FD6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60FBF-5861-491B-8A42-D5FC5831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F6C4D-9601-4E4E-A2CE-A1327B3C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F2A2A-A8C2-4140-BB50-C9C1E488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C9763-25A6-444F-B7C6-7BE48B28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6B8E90-8497-4944-B8B4-C4C701D8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3F0DA2-798C-4DB3-9B52-A8AF58AB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DBCD6E-FEF4-4C97-99F9-D9569777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A0A6A-4D76-4B4A-BA5B-145271A4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CE6F2-102E-4B3F-BF6B-21887350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FFB9-6A23-414F-9048-2B5CF7C6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A85F0-F1AB-45DE-9E36-7D4038DF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A505F-ADD8-43E9-8484-A4C65F0F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7A271-2168-4058-A234-D558C557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6C074-B68B-45E9-B301-E0753F81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FA00EF-91CC-4B7F-884C-A464EB0D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356296-3486-48CC-881B-0D7751E6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D709D-6764-4E7B-BF13-836DB209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7136A-9EE9-454E-886B-358CE948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99E578-0BD5-4CFD-9AE6-6F4B2C30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F3203-EB04-4334-B446-F115F747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8E05-3185-4AB7-AE7D-7CF40AC0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B2FF64-194F-4C68-A9CF-8D0544C1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FB52E0-D831-476C-8E31-0F7021BD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0717F7-9AE1-4837-98C8-A9AC0900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138F91-AD21-4B96-ABCC-6D4FBBED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A8173-A81B-47C3-981D-4C958A3A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A37F2-67A8-4BDC-A68F-61CCC6ED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CA3B1-6FFC-47C7-877F-A39F9AF8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50FB4B-FBAB-4BF4-A8BF-9731BB2E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F9ED3-8C85-400D-BAEA-7DD5B528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930DBB-64CF-4F8E-BE8C-BA25B71B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D7BF-CEE6-413A-B42F-C4EFDFB7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DEF98E-8220-46A5-98EC-EC45F6D4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DC8BBB-9F04-4D1D-B0C6-7647C97C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C97DB-A794-43EB-8D04-CB131651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42BB9-B642-45BC-B6B1-70D9A29D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EFDDC-054D-48D1-AFA2-1FECFCF9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4AA3F7-E6A9-4402-BCFC-6C9B9E88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5508F1-0C7E-4F26-903F-1986F869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713EA-0B00-4D22-91ED-52E9A4BD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414E88-2ADE-410A-A514-DFC7F509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CCD2B-6093-4AC8-AB0C-4C648637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04FF-11BD-4B69-A7DA-D1C7CB9A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34A912-6270-4BC2-BB8F-1FB9DD24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FA27C0-4AB6-4EB0-9EA7-11F4A41F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8D698E-8898-4A5A-8746-EAC5FBEF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19EF3-7443-4421-AFB4-9CF095DE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8547B7-0CAF-479B-B9F9-132030BA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9FF88B-1085-465D-84C3-8ABB17D5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DF82B3-954C-4CE8-87DF-C1D78764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F97B5F-8739-41D1-8A4A-E26C62C3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234E8-DA1C-4C3E-BAD3-898BA62D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373EE-2857-43DE-BC9E-38A95222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6672-5BD4-4F44-AFE5-DCD821F8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88AF37-1F42-42A6-BFCD-6986A051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EECF97-DDE6-466A-926C-E77063F0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EA4C72-29ED-4DA0-8402-1312BE73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9580-27F6-440D-909A-254E216B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2BC5-E6B1-430E-A918-29BBE4B7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7C1F-D479-4B41-8469-3F5DEC8C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81DF-DA8E-47E2-9C0A-4BDD070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A54-C5B8-4BD6-8F86-5F46858C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780F-150A-404C-A520-F4A62C1C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67C0-F613-466D-93CF-BD040D4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82114-7807-4A6B-A415-08244AA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0294D-E859-4253-88B3-2C43B6A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9A9C-732C-42D7-A936-30C8B985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3B69-2816-4C5A-81C5-49CE8DA5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E24C-31E3-4019-8CF9-9413CBCA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5D9B-33A2-49C8-A9BF-9B884481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FE7B-61D7-47B4-9497-DA6BBFDD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1F89C-3C6E-49ED-89C1-BA244257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95E-7A82-43E6-BB80-5D8BDFBB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F82F-FA71-4E26-8858-30B2973E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5C010-23D9-4B7C-B181-9759CAD5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B376F-D37C-42C0-ACBF-4D9BB8C4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D991D-11C9-4164-9405-54A083CB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E804-EAFE-44D8-8940-B8B2DBA1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7E621-11FF-49CB-9CCA-D1AA6D9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38B7-540C-4716-AA74-E0635F46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5006-F2A3-42A6-A2A5-837B886F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CD906-C434-40A8-83E2-F69F979C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4A9E7-77AB-4F12-AD57-B3E8BD7E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769-A780-44A4-839F-B9D64F1F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59E9-B275-4061-B8B0-41A81C1D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B26F-ED2A-4037-B1E2-2A70ED0B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74372-342F-4915-AFAE-DD5416B7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920DC-0CE9-4C39-96A8-0BC95F30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FDDDC-7192-4851-970D-948E1B37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643F7-A0E6-4830-9FA2-8404312C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F3710-A3C7-4A8C-AA02-9B4FDDD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F9724-5438-4AE6-8C1B-F2B4769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C651A-0D19-484F-B03B-DF155296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7B71B-7E38-4C6C-8759-C16B5BAF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8B6-AD6D-4C7C-9AF6-9CF36E7B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1843-1E42-4703-AA55-8C37AD6E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E79C2-76E4-4D0C-8EFE-992CF230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724E5-0C6C-4C67-81CA-1351D8CB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D12E4-0AFF-4A6C-9A7D-4B10E723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6DE0B-C962-4FF1-93B6-63B43BED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3C5A3-AA45-4423-AE7A-98601466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4D2FA-387F-4B0E-AEA7-76030613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435E5-CA3E-4D1F-BCDB-E08EF5F4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D162-3A78-4909-A051-E1EF5991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7FC9-A6D6-4FE5-97E6-8BF7C488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964-24DE-438B-B1A5-1149EDE7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07153-52B7-4710-9A96-3FDB7721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42902-E3A8-4F01-9914-82D2E317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7EC10-C713-479E-93AB-5A5344C7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055B4-FED1-4017-949B-8CB3D336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DC949-4B00-4C4C-A36B-1AAE8B91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4CE6F-5ED8-4915-BBD2-6B3D5716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B11F8-8E0F-4550-867C-F5ADD635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F85AD-6484-45C4-99B0-8C83D257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DA178-FB91-4D31-B3AD-00DB8670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2D6B4-7023-43B3-9F94-6159E156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F8F-3D2D-41FC-9A4E-C6168494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47080-B160-4FF3-BEBE-AC74CF1A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9A248-3F62-4BD3-A76D-FD632FAA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308C-D154-4383-BFF6-54A775FA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5A253-F276-444C-9AE0-F973DAC5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7F0A5-C1B0-4279-A7E5-94BAC3D3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377B1-537F-491B-BBC3-484F5EE5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AD1A5-441A-4E09-B62D-5BB45995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EAFB9-DBC4-4197-B6F9-558FB1A6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3451-4F45-4066-9D9E-80EF16F2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0060A-770C-4D9E-B211-7F29557D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536-EDB9-42E6-AD84-2923140E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94986-D31F-42EA-A49A-28771151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39441-80D3-4352-A8EF-2674E1F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79D4F-4465-439B-8CEA-4680D9EB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D7A21-3221-4454-9464-E1C0E8E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6A55F-2394-495D-83B2-3602369B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10FEC-51BA-4EA6-91C2-C45ABA54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72D84-3AF7-4F7D-B976-0E0A2697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9E411-56B2-41E3-8BB3-026B7F80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E44AC-E7F6-4941-B638-6C81BE3E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0A9A1-6638-4BA6-A64A-61C6B596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B54-B556-4CE7-830D-64629FBAB9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5BB8-2327-4277-AC0B-517DAB73F7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D16B-F619-4D7E-8C37-D74E743B20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CC95-9FAD-430A-9762-5CC90C9AEB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D1AC-16BC-42FA-95F7-D8482D111D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DBA1-D0B1-4B5F-AD08-C28554390B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7553-2A49-4A92-972C-C5AA85F853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8F81-0D23-4F97-968C-61A4035AEB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8C7B-B671-4D49-87D5-F9AD00D6D1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28B-E31E-413C-92A4-409CAA64FF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04A6-D86D-445E-95F5-5F0D7B2B08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5C6-97A2-44F1-B63C-A37BF1628B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D1C6-0254-4868-831A-72C4481F4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2CEE-2CE1-4979-BAA0-E40A92426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62B9-7204-4A3A-99D1-264F5054B5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A98A-67AF-466C-8D21-C3203BA9C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7E5C-F670-4015-87D8-F81CDD5C70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1E11-EBB2-4CE3-A79B-85434CA8AE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F75B-9030-40BF-82B3-62AB3B70BA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C6A9-C383-4FC4-AA2C-6FB97E54A2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A0C4-8EB7-4D83-B3E5-8189BD56F4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9396-AA73-4E47-B2A9-7763573104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886A-69D4-419D-9D52-FF48206192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E9E1-931B-40AB-B6EF-2E079F264D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B8D7-D802-4CB3-86E3-2AA147EF97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EBD0-F93E-4488-9A45-4932473D30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8596-9ECB-4D3F-9F8E-931A94C871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2A28-3CD9-4EE8-98EF-706706DA0B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C6B8-1A2A-43AA-AA01-DAB4A6DDF3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A0E0-F320-4435-B5DD-65CE1B4563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F5C9-F745-4BFC-8A76-4DA3A65C22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D0F2-04FC-46F8-891E-1C35BDDEFA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59EA-1B2D-433A-8589-45CF1ED7B0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513C-D36D-4F13-ACEE-EC8F67E58F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DC12-AC26-48A4-8028-B8477DC63A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F17B-14B1-4C6E-B38B-6DF9270EF3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35B-AD55-441B-9BBD-8CA4440E66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7FD4-875D-4740-BBE8-9D1DDBB55A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E086-D467-4EC7-A2A6-4C1DE9E00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0EE8-0CF0-4ED9-A41A-C0110D5638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62240" y="2805120"/>
            <a:ext cx="64195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33360" y="704880"/>
            <a:ext cx="8477280" cy="5819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349360" y="6121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30" descr=""/>
          <p:cNvPicPr/>
          <p:nvPr/>
        </p:nvPicPr>
        <p:blipFill>
          <a:blip r:embed="rId3"/>
          <a:stretch/>
        </p:blipFill>
        <p:spPr>
          <a:xfrm>
            <a:off x="2930400" y="3759120"/>
            <a:ext cx="371520" cy="36216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60431" descr=""/>
          <p:cNvPicPr/>
          <p:nvPr/>
        </p:nvPicPr>
        <p:blipFill>
          <a:blip r:embed="rId4"/>
          <a:stretch/>
        </p:blipFill>
        <p:spPr>
          <a:xfrm>
            <a:off x="6659640" y="3759120"/>
            <a:ext cx="37152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152280" y="905040"/>
            <a:ext cx="8839440" cy="5047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1979640" y="3294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3059280" y="3664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5724360" y="3313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8388360" y="3294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5743440" y="3706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6113520" y="558972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18:48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